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drumroll.wav" ContentType="audio/x-wav"/>
  <Override PartName="/ppt/media/image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applause.wav" ContentType="audio/x-wav"/>
  <Override PartName="/ppt/media/image16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8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159-CDF8-41B3-BD3A-C32FB71D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D50-2416-4140-9D38-598C92AA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68033-B0F6-4B38-8DA8-E433379F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DF8B6-2D3F-4CCD-B50B-AA9360F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AA03D-1EA0-4375-BC8F-CC028FB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0CA8F-39C0-47B9-B127-16E6AC5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2B02E-92D5-4E24-A574-89D2AFB7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1E5F3-352E-42AD-8B66-4A00D02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EFB3A-B21B-4F3F-A18C-11112484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EEEFE-1E62-4CD7-9190-AB8357DB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D751A-464B-4389-8206-83370F41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F25-3065-4AC6-B8C8-B1EA5DF1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F31-5C56-4951-BBF1-6528C4BC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0EB4-91E2-4A7B-BE57-4C00A3AE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144D-A17F-4B8C-A62B-FCEBEB4D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3C2-BC9F-4EBC-8FAF-796350A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215B-30F0-4E3A-A768-B75DA244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C920-D258-4E10-AC12-8A886F89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79A9-F4EB-4965-81DC-25A15BC6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6F41-0DF5-44DD-AEF7-5370E193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FDE-E8DC-4EFF-8E09-A78C5188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2741-73DA-4A27-A888-CB3B7AB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0FE6-1890-435E-8496-A914D3B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1875-E780-4D1F-9DE8-6C54A738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900B-9291-4FC1-A7A4-AFF0305E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1D9-D012-45E6-A1B9-F20DCDD5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746B-2BFA-422A-A774-C49C62DC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1652-51B7-4E11-B6E9-3D69D86C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5891-5431-4424-BDF8-BD3448B6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ACC9-7BA9-4105-A99F-9C93E3D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DE37-BAAA-43C0-B41F-CFFE67DE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7A0-940B-41E2-B4B4-B5D04BF1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E4BC-5DFB-4EEA-9822-49742292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324A-6756-4953-BBA0-20DDC870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9CD7-4EA0-4642-8A42-D18D2698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927E-3E25-4BA8-BDC3-A579DAA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5B1D-585D-4F39-A442-08EC2DB5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6E70-ACDC-417C-A7A1-9234B376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8A4D-56A4-4ABC-AFF6-219322C1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BA9A-A419-4DB9-9609-67422B9C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1B9F-3083-4ABC-B8F9-13CE0F42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1323-4CFB-4ABE-BD3B-E313C674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969-5CC7-4904-8612-9F53EE65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4F6F-5150-4ECA-8A3B-7E31EFB3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5898-FEF0-494D-B06A-2A41476A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36AB-11D3-4183-ACC2-C53EE8C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C960-8FB7-4349-B3A7-17C2C7E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59570-550C-45FC-9E21-1BCD905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89DC-FFA3-4581-89FB-80E5C3D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DBC5-26D3-4854-8F71-82A370EF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753C-7326-4C7A-A452-C010E31C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C8BEB-EC5A-45CB-962E-EC36827B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89D2C-1257-4C16-B619-1BD21816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8F3-2584-4437-8030-9A854B28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6499-1BA5-4016-8A9D-45607EF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3FF6-0E84-499A-A648-FE62B16B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C2BE8-B406-430B-A6CA-7D3E3EE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C2F4-C510-44E8-BE25-6B0F0EB5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952F-70FE-4F79-93C7-33EBDE08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AD0B-DD9D-4206-B109-522FFB1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462E-9BE8-4668-8C84-39C2A40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7E21-C184-4D34-A93F-CF756DA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98B3-A928-4FE6-BC60-2231D720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F447-93F9-4767-9383-1FF4EC9D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6E8-ED02-4288-91B3-785456B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22931-179B-4D84-A9BC-5B01453A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133CF-5678-45F6-B448-23C905B0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254D-3CDF-4E0C-9117-A8DEF84E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AE19C-40EF-40FE-BDF7-378F0335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A6CBE-A8DC-47A4-B868-725C7D93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6992-1071-422D-8F5D-D71BBD57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A841-FC77-48CC-A4E7-8CD0FDE8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ED99-CD02-4FE1-96DC-A95B954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06687-CAFF-496A-8037-F085508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A36F-3275-456E-868F-BA01388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534-6B89-43A7-AAE5-475C0EE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9F9C-C98B-40DA-BF05-7A10243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907C-C633-4803-870F-9378B3ED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17523-4555-4F92-ACAD-2F2D9218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A6F0B-89A8-48AE-8707-546A2D38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F51A-59A4-46A3-939A-F5345309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FC1E-01CC-458D-9CC4-B072C665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0BA7E-5494-4366-82CE-22BBAD72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15F5-D837-4CEE-AB9A-E40D980A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6740B-780A-4335-8798-2D6B85B7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9056-6B3A-422B-B9D1-19A7103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A05-CB9E-42AA-A2B6-5557AEC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C4B01-ACA3-4860-BCE1-42CFAE9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4C56-CBD0-4E79-91C3-E2330DDA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4B1D1-D720-451C-B852-BC516E0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0FA9B-4B3A-4992-9C3C-A5F6EE95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3186C-5673-42A6-AD62-235FA8D3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06CF2-825E-439D-89E2-8A355171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7E4C0-2C52-43D7-AA8A-92AD7FD6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AD7D7-AEFD-4133-9FD5-9228B5C7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38A2-B126-4824-A96F-BDD9ADBD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0C2AE-5079-431B-8C48-47F8777B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D4B-F26B-4F0E-A2B6-2E4519D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70AE7-97F3-4B28-A1D1-CEAB049A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A776E-26E7-4BBD-BA6A-481DB0BA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76081-6CF3-4FE2-B86A-97CA1E0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D6F2F-F7C2-4B7C-AE67-73DB27F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16373-65AF-4E34-9F69-603DB061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2945-4AEA-4B2C-88A5-1CAD41CE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5AC7-E260-47B6-B91B-E7FFED23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082EB-B6F6-40A2-8C24-2116AE3F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B5C57-25B7-4BBB-93C5-38CCA7DB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C95EC-32D4-468C-B7C7-3F10DBBE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9DCA-8262-441E-BA3D-F3ED39098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84E-D5A4-4CD9-9C46-E348B8ED23D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53E-147E-44F8-BC8F-045970DFBBC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F8C-78A6-498D-B76C-A1D747979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461E-B7A6-48C1-90E6-3B54440F2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7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C80-154C-495D-A73C-03C37D3FCD9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FE1F-F4B1-4F8C-A281-A12F44E43E2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41D4-6955-4745-89E0-F44BB0EC70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7CD-5828-445B-BA59-58BD3970F95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家校同心，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        师生同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6629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000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895480" y="30492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_GB2312"/>
              </a:rPr>
              <a:t>科 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94160" y="1468440"/>
            <a:ext cx="3160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王仙红     潘城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周建波     杨乐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张吕驰     范文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符家豪     戴伟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王  雄       成清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 rot="5400000">
            <a:off x="5600160" y="293364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新魏"/>
              </a:rPr>
              <a:t>家庭教育的误区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  <p:sp>
        <p:nvSpPr>
          <p:cNvPr id="496" name=""/>
          <p:cNvSpPr/>
          <p:nvPr/>
        </p:nvSpPr>
        <p:spPr>
          <a:xfrm>
            <a:off x="250920" y="-142920"/>
            <a:ext cx="753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我们的家庭教育不是要让孩子只知道学习，即使我们的家长是教授，也不能把孩子的功课都教好了，因为你只是熟知一门功课，并不能对孩子的各门功课都有能力来辅导，所以家长的主要责任不是在于帮助孩子补习知识，所以那些文化教育程度不高的家长不要担心和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卑，觉得自己帮不上孩子。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家长在对孩子的学习方面更多是要孩子树立职业的理想和兴趣，能够主动学习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学会学习。将来出社会能有一技之长。能靠自己的 技术吃饭，能更好的立足社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Comic Sans MS"/>
              </a:rPr>
              <a:t>一个学校最重大的事是教育孩子，一个家庭最重要的事同样也是教育孩子。而往往我们当中有很多家长会认为，孩子上了学，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吃穿问题由家长解决，而</a:t>
            </a:r>
            <a:r>
              <a:rPr b="1" lang="zh-CN" sz="3200" spc="-1" strike="noStrike">
                <a:solidFill>
                  <a:srgbClr val="33cc33"/>
                </a:solidFill>
                <a:latin typeface="Comic Sans MS"/>
              </a:rPr>
              <a:t>教育问题全部由教师去管</a:t>
            </a:r>
            <a:r>
              <a:rPr b="1" lang="zh-CN" sz="3200" spc="-1" strike="noStrike">
                <a:solidFill>
                  <a:srgbClr val="cc0099"/>
                </a:solidFill>
                <a:latin typeface="Comic Sans MS"/>
              </a:rPr>
              <a:t>。这种观点是不对的，你想，同样一个教师在同样一个班级上课，为什么有的学生学习成绩好，而有的学生学习成绩差一些呢？这其中关键在于家庭教育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Comic Sans MS"/>
              </a:rPr>
              <a:t>如何能做一个称职的家长，在</a:t>
            </a:r>
            <a:r>
              <a:rPr b="1" lang="zh-CN" sz="4800" spc="-1" strike="noStrike">
                <a:solidFill>
                  <a:srgbClr val="00cc00"/>
                </a:solidFill>
                <a:latin typeface="Comic Sans MS"/>
              </a:rPr>
              <a:t>品行，性格，学习</a:t>
            </a:r>
            <a:r>
              <a:rPr b="1" lang="zh-CN" sz="4800" spc="-1" strike="noStrike">
                <a:solidFill>
                  <a:srgbClr val="cc0099"/>
                </a:solidFill>
                <a:latin typeface="Comic Sans MS"/>
              </a:rPr>
              <a:t>方面对孩子进行良好的教育和影响呢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99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4000" spc="-1" strike="noStrike">
                <a:solidFill>
                  <a:srgbClr val="33cc33"/>
                </a:solidFill>
                <a:latin typeface="Tahoma"/>
              </a:rPr>
              <a:t>一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、家长要注意培养孩子良好的品行习惯，对孩子的道德品行、良好习惯的养成要从小抓起，从小事抓起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对不良行为要及时地预防和矫治。而常见的、多发的、容易诱发孩子犯罪的不良行为概括起来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种，它们是：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</a:rPr>
              <a:t>与品行不正的人交朋友；旷课、夜不归宿；携带管制刀具；吸烟；打架、斗殴、辱骂他人；强行向他人索要财物；偷窃或故意损害公共财物；参与赌博或变相赌博；观看、收听不良内容的音像制品读物；进入法律、法规规定的未成年人不适合进入的营业性歌舞厅、电子游戏厅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ahoma"/>
              </a:rPr>
              <a:t>二、家长要多一些时间和耐心去和孩子交流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孩子并不仅仅满足家长物质上的给与，学生需要的是和家长的真诚交流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   往往一个学生学习的动力来源与家长的期望，家长要经常性的了解学生的学习情况，在学校表现情况，和学生共同制订学习目标。家长要更多一点的投入精力关心学生的学习。对学生的学习过程进行管理，了解知道孩子什么时间该上学，什么时间放学，一天学习多长时间，完成没完成老师布置的作业。这样，孩子感受到家长对其学习的关注，当然在学习上就会非常用功，努力把学习搞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有的家长总是说，工作太忙，我说，家长再忙，又是为了什么？现在有许多的家长把精力用在为孩子攒钱，为孩子攒这个，为孩子攒哪个，那你有没有想过用你现在的精力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孩子攒个大学文凭，攒个孩子将来吃饭的好饭碗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再说你一生又能有多少时间用来陪子女呢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家长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对教育的投资是最明智的投资，是回报率最高的投资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，所以我认为家长同志应该和孩子共同努力，把精力更多的投入到关心孩子的学习中去，把孩子培养好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家长要言传身教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有些家长常常对孩子说，快毕业考试了，不能看电视，而他们自己却在看电视、打牌，不但容易引起孩子的反感，也影响孩子的学习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心理学家说：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孩子生活在批评中学会谴责；敌视中学会好斗；恐惧中变得忧心忡忡；鼓励中学会自信；安全中学会理解相信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ahoma"/>
              </a:rPr>
              <a:t>四、要给孩子创造一个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良好的学习环境</a:t>
            </a:r>
            <a:r>
              <a:rPr b="1" lang="zh-CN" sz="4800" spc="-1" strike="noStrike">
                <a:solidFill>
                  <a:srgbClr val="33cc33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ahoma"/>
              </a:rPr>
              <a:t> </a:t>
            </a:r>
            <a:br>
              <a:rPr sz="4000"/>
            </a:b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   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可能家长要问，你让我们更多的关心孩子，但我们不缺他的吃穿，学习上我们有使不上劲这不是为难我们么？我说不是这样，学生学习的好坏关键是我们能不能给他提供一个好的学习环境。</a:t>
            </a:r>
            <a:br>
              <a:rPr sz="3600"/>
            </a:b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   有人说教师的孩子往往读书会很好，其实教师的孩子在智力上根本没有优势，关键是当教师的父母往往更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注重孩子的家庭教育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，往往注重给孩子创造一个学习的良好环境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732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身边的这样的例子很多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有位老师，儿子上初中以后，不管春夏秋冬，一直坚持每天陪孩子写作业，他就说，学习习惯好的孩子是家长看出来的，管出来的。他把孩子一直看着送进了重点中学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  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还有一位老师，平时注重对儿子良好习惯的养成和上进心的培养，考取了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重点中学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每次孩子考试完后，都和孩子一起制定学习目标和学习计划，每天都检查督导学习计划执行情况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  良好的学习环境需要安静，有的家庭网上，打麻将、打扑克，看电视都会影响孩子的学习。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最好单独给孩子提供一个学习的空间，一间屋子，一张桌子。让孩子远离干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ff"/>
                </a:solidFill>
                <a:latin typeface="Comic Sans MS"/>
              </a:rPr>
              <a:t>尊敬的各位家长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今天首先感谢您们在百忙之中抽空来参加家长会，协助并参与我们的教育教学工作。关心、帮助、督促贵子女学习是我们共同的心愿！使您的孩子得到全面发展和提高是我们共同的目标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</a:rPr>
              <a:t>五、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要重视心理健康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有些家长对孩子的身体备加呵护，却忽视了孩子的心理健康。思想道德素养非常重要，有专家指出：“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学习不好是次品，身体不好是废品，心理不好是危险品，思想不好是危害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”。</a:t>
            </a:r>
            <a:br>
              <a:rPr sz="3600"/>
            </a:b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441440" y="2057400"/>
            <a:ext cx="69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另外，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安全问题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，有必要提一下，早晚路上和在家都要注意，不要因为一时大意而后悔莫及，影响你们孩子的前程甚至生命安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38280" y="-61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家长同志们，我们的目标是统一的，我们的任务是一致的，愿我们相互合作，把我们的学生，您的孩子，培养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勤奋，品质优良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的优秀人才，为将来学生的升学、就业、乃至整个人生的发展打下坚实的良好的基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763640" y="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建        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9640" y="69228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要尽量控制孩子的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零用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和上学、回家的时间，教育孩子少与社会上的或其他学校的人搭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8360" y="227664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希望家长在假期、周六晚上、周日下午这段时间内督促孩子多看书，少看电视，更不允许上网打游戏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39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要把手机、玉佩等东西给子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4572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每周帮孩子听写语文词语和英语单词并签字，给孩子创造良好的学习环境，多鼓励孩子，多与孩子一同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2006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年中考各科分值介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676520" y="1828800"/>
          <a:ext cx="6045120" cy="3200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科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社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分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0" y="0"/>
            <a:ext cx="10972440" cy="8229240"/>
            <a:chOff x="0" y="0"/>
            <a:chExt cx="10972440" cy="8229240"/>
          </a:xfrm>
        </p:grpSpPr>
        <p:pic>
          <p:nvPicPr>
            <p:cNvPr id="5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972440" cy="82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919880" y="7131960"/>
              <a:ext cx="184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家长会的主题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是和家长同志们汇报一下前阶段同学们在校表现和学习情况。结合上学期期末考试的情况，分析学生的学习、生活和心理状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二是和家长们探讨今后学生的教育问题，特别是家庭对孩子行为习惯和学习成绩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5335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班级任课老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687680"/>
            <a:ext cx="77724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：梁老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：王老师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电话：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244153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：郭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：李老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政：张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99480" y="4446720"/>
            <a:ext cx="607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校作息时间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前到学校，中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开始静校，下午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放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6280" y="384120"/>
            <a:ext cx="76010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学期班级总分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2240" y="1487520"/>
            <a:ext cx="6188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仙红              徐玲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建波              杨乐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於双双              范文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符家豪              蒋  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  雄               丁伟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5029200" y="4724280"/>
            <a:ext cx="2044800" cy="2438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754380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762120" y="434340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044440" cy="16765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295280" y="5257800"/>
            <a:ext cx="2044800" cy="16002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8"/>
          <a:stretch/>
        </p:blipFill>
        <p:spPr>
          <a:xfrm>
            <a:off x="2514600" y="5257800"/>
            <a:ext cx="2044800" cy="22096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219320" y="241776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各科班级前十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505320" y="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语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914400"/>
            <a:ext cx="556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王仙红      徐玲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周建波      於双双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蒋  黎       丁伟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陈  晨        白伟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乔美玲      阮肖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819520" y="3049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数 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84360" y="268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38000" y="1330200"/>
            <a:ext cx="3061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王仙红    周建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杨乐乐    於双双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潘城城    符家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潘秀燕    王  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丁伟明    郏伯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429000" y="34596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英   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12960" y="30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46800" y="1452600"/>
            <a:ext cx="3449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王仙红       徐玲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刘婷婷       符家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蒋  黎         丁伟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陈  晨         张金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白伟挺        郏伯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00:10Z</dcterms:modified>
  <cp:revision>2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